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a facilitator, post the Guidelines for Whole-Class Math Talk attached to the MATCH template.  Suggest that we are going to practice these guidelines over the course of the week as we engage in a number of different learning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11C4-31F0-45C5-ADFA-50771182D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7610-77FC-4669-8E16-86DB1501F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66E0-B839-4F0B-889F-290D2AF61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2C72-507A-41EF-833E-ABA74F1881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660A-4231-491A-B70E-73710C3C4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D8BB-C06D-4267-8C55-761CD77B3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57BB-7606-452D-B326-13B2D2F4F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0BDC-F8AB-46EE-8063-136473B61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6836-A963-4B20-AEF4-946F06868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2713-D863-4A52-A6BF-89E1BE175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9A50-D308-4800-A14E-504EFA0F1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8888-D1CF-4678-AA7B-9D79BC9CA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D2B2-E181-4AF4-9E5A-7292B225A2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E37C-2749-4E51-AF7C-789B410F7B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t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your goal for Math CAMPP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E2D1-D3CD-4E4B-BE6F-D7577978A2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CBF0-D7C8-4169-930F-4BA764774B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our Corn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A500-C4FB-4321-99D5-997E9A1E53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E:\Beach Images\Beach &amp; Water (A - B)\Boating 07.wmf"/>
          <p:cNvPicPr/>
          <p:nvPr/>
        </p:nvPicPr>
        <p:blipFill>
          <a:blip r:embed="rId2"/>
          <a:stretch/>
        </p:blipFill>
        <p:spPr>
          <a:xfrm>
            <a:off x="5943600" y="3581280"/>
            <a:ext cx="271476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E:\Beach Images\Beach &amp; Water (A - B)\Building a Sand Castle 01.wmf"/>
          <p:cNvPicPr/>
          <p:nvPr/>
        </p:nvPicPr>
        <p:blipFill>
          <a:blip r:embed="rId3"/>
          <a:stretch/>
        </p:blipFill>
        <p:spPr>
          <a:xfrm>
            <a:off x="380880" y="365760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E:\Beach Images\Beach &amp; Water (A - B)\Boy Diving 2.wmf"/>
          <p:cNvPicPr/>
          <p:nvPr/>
        </p:nvPicPr>
        <p:blipFill>
          <a:blip r:embed="rId4"/>
          <a:stretch/>
        </p:blipFill>
        <p:spPr>
          <a:xfrm>
            <a:off x="6781680" y="228600"/>
            <a:ext cx="1486080" cy="30193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4" descr="E:\Beach Images\Beach &amp; Water (A - B)\Boys with Canoe.wmf"/>
          <p:cNvPicPr/>
          <p:nvPr/>
        </p:nvPicPr>
        <p:blipFill>
          <a:blip r:embed="rId5"/>
          <a:stretch/>
        </p:blipFill>
        <p:spPr>
          <a:xfrm>
            <a:off x="457200" y="13716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4"/>
          <p:cNvSpPr/>
          <p:nvPr/>
        </p:nvSpPr>
        <p:spPr>
          <a:xfrm>
            <a:off x="3657600" y="167652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What was your comfort level when you were studying mathematics as a stu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ding with a Purpos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7410-1135-42C1-BF86-140E2C81A8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782640" indent="-743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Read the Research Monograph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82640" indent="-743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s a result of this research, what might a teacher do to create a collaborative learning commun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2b5ca9"/>
                </a:solidFill>
                <a:latin typeface="Arial"/>
              </a:rPr>
              <a:t>Square Share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iscuss with your table group the focus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port ou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52EE-CC2A-4775-A30C-85FE4DFFA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York Region District Schoolboard</cp:lastModifiedBy>
  <dcterms:modified xsi:type="dcterms:W3CDTF">2011-08-17T22:13:01Z</dcterms:modified>
  <cp:revision>23</cp:revision>
  <dc:subject/>
  <dc:title>&lt;Title&gt;</dc:title>
</cp:coreProperties>
</file>